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dailydoub.wav" ContentType="audio/x-wav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617-0190-4CC4-8908-B50D9AEA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834-553F-41F0-8D47-B38419E5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9FD-8373-4FF9-82C4-1B534E4F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9F8-B33C-4D96-8234-03D3158C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7DF-888B-4927-91A7-9D1FDFE7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CF7-6933-4BAE-8C06-4BCD7E70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D79-805C-4845-A402-CC193EAB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212-A29A-4ECD-93A4-7EA8E6E3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8CA-145E-4B48-8F77-0CF7A407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3B5-D50A-44E4-898B-C5F58D96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36D-8CC5-4E98-931D-A2BC246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013-E16C-418E-9B34-B644D4E5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4312-897D-497A-BB29-3A21FB16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pening.wav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file:///tmp/home/.config/libreoffice/4/user/gallery/question.wav" TargetMode="External"/><Relationship Id="rId8" Type="http://schemas.microsoft.com/office/2007/relationships/media" Target="file:///tmp/home/.config/libreoffice/4/user/gallery/question.wav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ailydoub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slide" Target="slide25.xml"/><Relationship Id="rId7" Type="http://schemas.openxmlformats.org/officeDocument/2006/relationships/slide" Target=""/><Relationship Id="rId8" Type="http://schemas.openxmlformats.org/officeDocument/2006/relationships/slide" Target="slide35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56.xml"/><Relationship Id="rId12" Type="http://schemas.openxmlformats.org/officeDocument/2006/relationships/slide" Target=""/><Relationship Id="rId13" Type="http://schemas.openxmlformats.org/officeDocument/2006/relationships/slide" Target="slide6.xml"/><Relationship Id="rId14" Type="http://schemas.openxmlformats.org/officeDocument/2006/relationships/slide" Target=""/><Relationship Id="rId15" Type="http://schemas.openxmlformats.org/officeDocument/2006/relationships/slide" Target="slide16.xml"/><Relationship Id="rId16" Type="http://schemas.openxmlformats.org/officeDocument/2006/relationships/slide" Target=""/><Relationship Id="rId17" Type="http://schemas.openxmlformats.org/officeDocument/2006/relationships/slide" Target="slide27.xml"/><Relationship Id="rId18" Type="http://schemas.openxmlformats.org/officeDocument/2006/relationships/slide" Target=""/><Relationship Id="rId19" Type="http://schemas.openxmlformats.org/officeDocument/2006/relationships/slide" Target="slide37.xml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slide58.xml"/><Relationship Id="rId23" Type="http://schemas.openxmlformats.org/officeDocument/2006/relationships/slide" Target=""/><Relationship Id="rId24" Type="http://schemas.openxmlformats.org/officeDocument/2006/relationships/slide" Target="slide8.xml"/><Relationship Id="rId25" Type="http://schemas.openxmlformats.org/officeDocument/2006/relationships/slide" Target=""/><Relationship Id="rId26" Type="http://schemas.openxmlformats.org/officeDocument/2006/relationships/slide" Target="slide18.xml"/><Relationship Id="rId27" Type="http://schemas.openxmlformats.org/officeDocument/2006/relationships/slide" Target=""/><Relationship Id="rId28" Type="http://schemas.openxmlformats.org/officeDocument/2006/relationships/slide" Target="slide29.xml"/><Relationship Id="rId29" Type="http://schemas.openxmlformats.org/officeDocument/2006/relationships/slide" Target=""/><Relationship Id="rId30" Type="http://schemas.openxmlformats.org/officeDocument/2006/relationships/slide" Target="slide39.xml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slide60.xml"/><Relationship Id="rId34" Type="http://schemas.openxmlformats.org/officeDocument/2006/relationships/slide" Target=""/><Relationship Id="rId35" Type="http://schemas.openxmlformats.org/officeDocument/2006/relationships/slide" Target="slide10.xml"/><Relationship Id="rId36" Type="http://schemas.openxmlformats.org/officeDocument/2006/relationships/slide" Target=""/><Relationship Id="rId37" Type="http://schemas.openxmlformats.org/officeDocument/2006/relationships/slide" Target="slide20.xml"/><Relationship Id="rId38" Type="http://schemas.openxmlformats.org/officeDocument/2006/relationships/slide" Target=""/><Relationship Id="rId39" Type="http://schemas.openxmlformats.org/officeDocument/2006/relationships/slide" Target="slide31.xml"/><Relationship Id="rId40" Type="http://schemas.openxmlformats.org/officeDocument/2006/relationships/slide" Target=""/><Relationship Id="rId41" Type="http://schemas.openxmlformats.org/officeDocument/2006/relationships/slide" Target=""/><Relationship Id="rId42" Type="http://schemas.openxmlformats.org/officeDocument/2006/relationships/slide" Target="slide52.xml"/><Relationship Id="rId43" Type="http://schemas.openxmlformats.org/officeDocument/2006/relationships/slide" Target=""/><Relationship Id="rId44" Type="http://schemas.openxmlformats.org/officeDocument/2006/relationships/slide" Target="slide62.xml"/><Relationship Id="rId45" Type="http://schemas.openxmlformats.org/officeDocument/2006/relationships/slide" Target=""/><Relationship Id="rId46" Type="http://schemas.openxmlformats.org/officeDocument/2006/relationships/slide" Target="slide12.xml"/><Relationship Id="rId47" Type="http://schemas.openxmlformats.org/officeDocument/2006/relationships/slide" Target=""/><Relationship Id="rId48" Type="http://schemas.openxmlformats.org/officeDocument/2006/relationships/slide" Target=""/><Relationship Id="rId49" Type="http://schemas.openxmlformats.org/officeDocument/2006/relationships/slide" Target="slide33.xml"/><Relationship Id="rId50" Type="http://schemas.openxmlformats.org/officeDocument/2006/relationships/slide" Target=""/><Relationship Id="rId51" Type="http://schemas.openxmlformats.org/officeDocument/2006/relationships/slide" Target=""/><Relationship Id="rId52" Type="http://schemas.openxmlformats.org/officeDocument/2006/relationships/slide" Target="slide54.xml"/><Relationship Id="rId53" Type="http://schemas.openxmlformats.org/officeDocument/2006/relationships/slide" Target=""/><Relationship Id="rId54" Type="http://schemas.openxmlformats.org/officeDocument/2006/relationships/slide" Target="slide64.xml"/><Relationship Id="rId55" Type="http://schemas.openxmlformats.org/officeDocument/2006/relationships/slide" Target=""/><Relationship Id="rId56" Type="http://schemas.openxmlformats.org/officeDocument/2006/relationships/slide" Target=""/><Relationship Id="rId57" Type="http://schemas.openxmlformats.org/officeDocument/2006/relationships/slide" Target=""/><Relationship Id="rId58" Type="http://schemas.openxmlformats.org/officeDocument/2006/relationships/slide" Target=""/><Relationship Id="rId5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ailydoub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inaljeo.wav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292896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886200" y="380880"/>
            <a:ext cx="41702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638680" y="2459160"/>
            <a:ext cx="747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86200" y="4035600"/>
            <a:ext cx="404352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Jeopardy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5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295280"/>
            <a:ext cx="838188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 Income Statement can be set up by using the account balances found on th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2360" y="19162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Trial Bal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187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704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143000"/>
            <a:ext cx="853452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type of documents where transaction information is obtained from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62864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ource documen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198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28600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Normal Balance (Side) of Expense Accoun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268280"/>
            <a:ext cx="8381880" cy="331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Balances or (Left Sid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09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90512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Balance Sheet summarizes information about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2360" y="1413000"/>
            <a:ext cx="8381880" cy="331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ssets, Liabilities and Owner’s Equit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20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133720"/>
            <a:ext cx="838188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venues – Expenses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2360" y="1413000"/>
            <a:ext cx="8381880" cy="378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Net Income 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Net Los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31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35760" y="2003400"/>
            <a:ext cx="1827360" cy="439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29000" y="2136600"/>
            <a:ext cx="2249640" cy="403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2009880"/>
            <a:ext cx="2004840" cy="41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560" y="4876920"/>
            <a:ext cx="186876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34340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18000" y="4876920"/>
            <a:ext cx="1868400" cy="184608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4346640"/>
            <a:ext cx="2286000" cy="25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33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1520" y="4879800"/>
            <a:ext cx="1871640" cy="1846440"/>
          </a:xfrm>
          <a:prstGeom prst="flowChartAlternateProcess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36360" y="3049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129528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7" action="ppaction://hlinksldjump"/>
          </p:cNvPr>
          <p:cNvSpPr/>
          <p:nvPr/>
        </p:nvSpPr>
        <p:spPr>
          <a:xfrm>
            <a:off x="1371600" y="304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7080" y="5084640"/>
            <a:ext cx="186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a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5084640"/>
            <a:ext cx="17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a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5084640"/>
            <a:ext cx="17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am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8" action="ppaction://hlinksldjump"/>
          </p:cNvPr>
          <p:cNvSpPr/>
          <p:nvPr/>
        </p:nvSpPr>
        <p:spPr>
          <a:xfrm>
            <a:off x="2666880" y="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9" action="ppaction://hlinksldjump"/>
          </p:cNvPr>
          <p:cNvSpPr/>
          <p:nvPr/>
        </p:nvSpPr>
        <p:spPr>
          <a:xfrm>
            <a:off x="2666880" y="1522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08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914400"/>
            <a:ext cx="838224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arning a Net Income or a Profit would result in a ______to Owner’s Equity of the compan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2360" y="1413000"/>
            <a:ext cx="8381880" cy="378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Credi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an Increas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4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523880"/>
            <a:ext cx="838188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presents the net worth of a compa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53" name=""/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67652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wner’s Equ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61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2360" y="162864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Capital Account generally has this type of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7524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Credit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72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447920"/>
            <a:ext cx="838224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f we spent more money than we had in the Bank, then our Bank Account would have this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341360"/>
            <a:ext cx="8381880" cy="378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Credit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An overdraft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83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838080"/>
            <a:ext cx="8381880" cy="5580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BC Company owes XYZ Company $1300 and the XYZ account is credited for $1200.  This is the new XYZ account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85800"/>
            <a:ext cx="716292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4296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2144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2768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4016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46040" y="65412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urnals &amp; Led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685800"/>
            <a:ext cx="129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/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838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83808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838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6922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the world TER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152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46040" y="16668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1295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4016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251460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7" action="ppaction://hlinksldjump"/>
          </p:cNvPr>
          <p:cNvSpPr/>
          <p:nvPr/>
        </p:nvSpPr>
        <p:spPr>
          <a:xfrm>
            <a:off x="3733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276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4876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144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0" action="ppaction://hlinksldjump"/>
          </p:cNvPr>
          <p:cNvSpPr/>
          <p:nvPr/>
        </p:nvSpPr>
        <p:spPr>
          <a:xfrm>
            <a:off x="6095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2" action="ppaction://hlinksldjump"/>
          </p:cNvPr>
          <p:cNvSpPr/>
          <p:nvPr/>
        </p:nvSpPr>
        <p:spPr>
          <a:xfrm>
            <a:off x="152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46040" y="26892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4" action="ppaction://hlinksldjump"/>
          </p:cNvPr>
          <p:cNvSpPr/>
          <p:nvPr/>
        </p:nvSpPr>
        <p:spPr>
          <a:xfrm>
            <a:off x="1295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4016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6" action="ppaction://hlinksldjump"/>
          </p:cNvPr>
          <p:cNvSpPr/>
          <p:nvPr/>
        </p:nvSpPr>
        <p:spPr>
          <a:xfrm>
            <a:off x="251460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8" action="ppaction://hlinksldjump"/>
          </p:cNvPr>
          <p:cNvSpPr/>
          <p:nvPr/>
        </p:nvSpPr>
        <p:spPr>
          <a:xfrm>
            <a:off x="3733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276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20" action="ppaction://hlinksldjump"/>
          </p:cNvPr>
          <p:cNvSpPr/>
          <p:nvPr/>
        </p:nvSpPr>
        <p:spPr>
          <a:xfrm>
            <a:off x="4876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144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1" action="ppaction://hlinksldjump"/>
          </p:cNvPr>
          <p:cNvSpPr/>
          <p:nvPr/>
        </p:nvSpPr>
        <p:spPr>
          <a:xfrm>
            <a:off x="60958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3" action="ppaction://hlinksldjump"/>
          </p:cNvPr>
          <p:cNvSpPr/>
          <p:nvPr/>
        </p:nvSpPr>
        <p:spPr>
          <a:xfrm>
            <a:off x="152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46040" y="37130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5" action="ppaction://hlinksldjump"/>
          </p:cNvPr>
          <p:cNvSpPr/>
          <p:nvPr/>
        </p:nvSpPr>
        <p:spPr>
          <a:xfrm>
            <a:off x="1295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4016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7" action="ppaction://hlinksldjump"/>
          </p:cNvPr>
          <p:cNvSpPr/>
          <p:nvPr/>
        </p:nvSpPr>
        <p:spPr>
          <a:xfrm>
            <a:off x="251460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9" action="ppaction://hlinksldjump"/>
          </p:cNvPr>
          <p:cNvSpPr/>
          <p:nvPr/>
        </p:nvSpPr>
        <p:spPr>
          <a:xfrm>
            <a:off x="3733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276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1" action="ppaction://hlinksldjump"/>
          </p:cNvPr>
          <p:cNvSpPr/>
          <p:nvPr/>
        </p:nvSpPr>
        <p:spPr>
          <a:xfrm>
            <a:off x="4876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2144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32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34" action="ppaction://hlinksldjump"/>
          </p:cNvPr>
          <p:cNvSpPr/>
          <p:nvPr/>
        </p:nvSpPr>
        <p:spPr>
          <a:xfrm>
            <a:off x="152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6040" y="473544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6" action="ppaction://hlinksldjump"/>
          </p:cNvPr>
          <p:cNvSpPr/>
          <p:nvPr/>
        </p:nvSpPr>
        <p:spPr>
          <a:xfrm>
            <a:off x="1295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4016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8" action="ppaction://hlinksldjump"/>
          </p:cNvPr>
          <p:cNvSpPr/>
          <p:nvPr/>
        </p:nvSpPr>
        <p:spPr>
          <a:xfrm>
            <a:off x="251460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40" action="ppaction://hlinksldjump"/>
          </p:cNvPr>
          <p:cNvSpPr/>
          <p:nvPr/>
        </p:nvSpPr>
        <p:spPr>
          <a:xfrm>
            <a:off x="3733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276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41" action="ppaction://hlinksldjump"/>
          </p:cNvPr>
          <p:cNvSpPr/>
          <p:nvPr/>
        </p:nvSpPr>
        <p:spPr>
          <a:xfrm>
            <a:off x="4876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2144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43" action="ppaction://hlinksldjump"/>
          </p:cNvPr>
          <p:cNvSpPr/>
          <p:nvPr/>
        </p:nvSpPr>
        <p:spPr>
          <a:xfrm>
            <a:off x="60958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45" action="ppaction://hlinksldjump"/>
          </p:cNvPr>
          <p:cNvSpPr/>
          <p:nvPr/>
        </p:nvSpPr>
        <p:spPr>
          <a:xfrm>
            <a:off x="152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46040" y="575928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7" action="ppaction://hlinksldjump"/>
          </p:cNvPr>
          <p:cNvSpPr/>
          <p:nvPr/>
        </p:nvSpPr>
        <p:spPr>
          <a:xfrm>
            <a:off x="1295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4016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8" action="ppaction://hlinksldjump"/>
          </p:cNvPr>
          <p:cNvSpPr/>
          <p:nvPr/>
        </p:nvSpPr>
        <p:spPr>
          <a:xfrm>
            <a:off x="251460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50" action="ppaction://hlinksldjump"/>
          </p:cNvPr>
          <p:cNvSpPr/>
          <p:nvPr/>
        </p:nvSpPr>
        <p:spPr>
          <a:xfrm>
            <a:off x="3733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276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51" action="ppaction://hlinksldjump"/>
          </p:cNvPr>
          <p:cNvSpPr/>
          <p:nvPr/>
        </p:nvSpPr>
        <p:spPr>
          <a:xfrm>
            <a:off x="4876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2144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53" action="ppaction://hlinksldjump"/>
          </p:cNvPr>
          <p:cNvSpPr/>
          <p:nvPr/>
        </p:nvSpPr>
        <p:spPr>
          <a:xfrm>
            <a:off x="60958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$500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55" action="ppaction://hlinksldjump"/>
          </p:cNvPr>
          <p:cNvSpPr/>
          <p:nvPr/>
        </p:nvSpPr>
        <p:spPr>
          <a:xfrm>
            <a:off x="7924680" y="17524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56" action="ppaction://hlinksldjump"/>
          </p:cNvPr>
          <p:cNvSpPr/>
          <p:nvPr/>
        </p:nvSpPr>
        <p:spPr>
          <a:xfrm>
            <a:off x="8001000" y="1905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924680" y="2819520"/>
            <a:ext cx="1219320" cy="914400"/>
            <a:chOff x="7924680" y="2819520"/>
            <a:chExt cx="1219320" cy="914400"/>
          </a:xfrm>
        </p:grpSpPr>
        <p:sp>
          <p:nvSpPr>
            <p:cNvPr id="143" name="">
              <a:hlinkClick r:id="rId57" action="ppaction://hlinksldjump"/>
            </p:cNvPr>
            <p:cNvSpPr/>
            <p:nvPr/>
          </p:nvSpPr>
          <p:spPr>
            <a:xfrm>
              <a:off x="7924680" y="28195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rId58" action="ppaction://hlinksldjump"/>
            </p:cNvPr>
            <p:cNvSpPr/>
            <p:nvPr/>
          </p:nvSpPr>
          <p:spPr>
            <a:xfrm>
              <a:off x="7967520" y="31240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7002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$2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294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197000"/>
            <a:ext cx="896472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purpose of the Trial Balance is to check that these accounts are in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2360" y="12682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ledger accoun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0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143000"/>
            <a:ext cx="8382240" cy="5212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t the beginning of the year, the owner’s Capital was $36,000.  At the end of the year, Capital was $43,000.  If Drawings were $2,000, Net Income must have bee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2360" y="1557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$9,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16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2360" y="765000"/>
            <a:ext cx="8381880" cy="1006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1197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144792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fundamental Accounting Equation is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822240"/>
            <a:ext cx="8381880" cy="6094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ssets = Liabilities + Owner’s Equ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– L = O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29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762120"/>
            <a:ext cx="8381880" cy="58546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transaction that is posted as a DR of $365 and a CR of $356 will cause a Trial Balance Error of $9.  This is an example of a _______ erro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2360" y="1557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position Err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40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2360" y="907920"/>
            <a:ext cx="8381880" cy="5580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f the Capital balance of $10,000 is posted twice, the Trial Balance will be out of balance by this amou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55736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ach of these have their own specially designed pages in the Ledg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2360" y="1557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$10,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51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1523880"/>
            <a:ext cx="8915400" cy="331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Income Statement equation is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219320"/>
            <a:ext cx="8381880" cy="6094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venues – Expenses = Net Income 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Net Los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62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213372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quity equation on the Balance Sheet is..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380880"/>
            <a:ext cx="8610840" cy="5456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pening Capital Bal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+ Net Income (or – Net Los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raw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= Closing Capital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73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371600"/>
            <a:ext cx="838188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of issuing a Sales Invoi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2360" y="1413000"/>
            <a:ext cx="8381880" cy="4704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Accounts Receiv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redit Reven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84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2360" y="112536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of making a payment on account (to a business we owe money to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1143000"/>
            <a:ext cx="8381880" cy="4704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Accounts Pay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redit Ca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39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084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360" y="198900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924680" y="4800600"/>
            <a:ext cx="1219320" cy="914400"/>
            <a:chOff x="7924680" y="4800600"/>
            <a:chExt cx="1219320" cy="914400"/>
          </a:xfrm>
        </p:grpSpPr>
        <p:sp>
          <p:nvSpPr>
            <p:cNvPr id="154" name="">
              <a:hlinkClick r:id="rId3" action="ppaction://hlinksldjump"/>
            </p:cNvPr>
            <p:cNvSpPr/>
            <p:nvPr/>
          </p:nvSpPr>
          <p:spPr>
            <a:xfrm>
              <a:off x="7924680" y="480060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rId4" action="ppaction://hlinksldjump"/>
            </p:cNvPr>
            <p:cNvSpPr/>
            <p:nvPr/>
          </p:nvSpPr>
          <p:spPr>
            <a:xfrm>
              <a:off x="7967520" y="510516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1295280"/>
            <a:ext cx="838188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when we receive a receipt on account (from a business that owes us money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990720"/>
            <a:ext cx="8381880" cy="4704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redit Accounts Receiv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B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09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2360" y="119700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when we make a purchase of supplies on accou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219320"/>
            <a:ext cx="8381880" cy="4704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Suppl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redit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 Accounts Pay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20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152388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effect on Owner’s Equity when the company has a Net Inco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2360" y="1484280"/>
            <a:ext cx="8381880" cy="378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 increase 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cred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31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914400"/>
            <a:ext cx="8382240" cy="5580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alaries, Advertising, Maintenance and Utilities, examples of items used to help generate revenue in a business are call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2360" y="148428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42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4000" y="1484280"/>
            <a:ext cx="8381880" cy="4665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money, or promise of money received from the sale of goods or services is called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4000" y="1341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ven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53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773360"/>
            <a:ext cx="838188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ere all transactions are recorded firs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914400"/>
            <a:ext cx="8382240" cy="5031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ich GAAP principle is being followed when expenses are recorded in the same time period as the revenue they helped to ear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600200"/>
            <a:ext cx="8381880" cy="331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Matching Princi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64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1828800"/>
            <a:ext cx="843444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presents the period of time required to complete the accounting cyc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2360" y="141300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 Fiscal Peri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7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838080"/>
            <a:ext cx="8381880" cy="74473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Dr/Cr Theory states that each transaction must have equal ____ and _____ amounts post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2360" y="141300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ebit and Cred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486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209680" y="223920"/>
            <a:ext cx="48945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">
            <a:hlinkClick r:id="rId6" action="ppaction://hlinksldjump"/>
          </p:cNvPr>
          <p:cNvSpPr/>
          <p:nvPr/>
        </p:nvSpPr>
        <p:spPr>
          <a:xfrm>
            <a:off x="3352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7" action="ppaction://hlinksldjump"/>
          </p:cNvPr>
          <p:cNvSpPr/>
          <p:nvPr/>
        </p:nvSpPr>
        <p:spPr>
          <a:xfrm>
            <a:off x="339408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4251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ategory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Chart of Ac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8" action="ppaction://hlinksldjump"/>
          </p:cNvPr>
          <p:cNvSpPr/>
          <p:nvPr/>
        </p:nvSpPr>
        <p:spPr>
          <a:xfrm>
            <a:off x="4952880" y="594684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994280" y="6019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990720"/>
            <a:ext cx="9144000" cy="367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number 405 indicates which type of accou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ood luck, every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1484280"/>
            <a:ext cx="8381880" cy="5180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Revenue accou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rId1" action="ppaction://hlinksldjump"/>
          </p:cNvPr>
          <p:cNvSpPr/>
          <p:nvPr/>
        </p:nvSpPr>
        <p:spPr>
          <a:xfrm>
            <a:off x="388620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rId2" action="ppaction://hlinksldjump"/>
          </p:cNvPr>
          <p:cNvSpPr/>
          <p:nvPr/>
        </p:nvSpPr>
        <p:spPr>
          <a:xfrm>
            <a:off x="39276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773360"/>
            <a:ext cx="8381880" cy="2399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General Jour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00100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165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2360" y="141300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se type of accounts would be listed first on a Trial Bala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773360"/>
            <a:ext cx="8382240" cy="192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re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sset Accou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7994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924680" y="4876920"/>
            <a:ext cx="1219320" cy="914400"/>
            <a:chOff x="7924680" y="4876920"/>
            <a:chExt cx="1219320" cy="914400"/>
          </a:xfrm>
        </p:grpSpPr>
        <p:sp>
          <p:nvSpPr>
            <p:cNvPr id="176" name="">
              <a:hlinkClick r:id="rId3" action="ppaction://hlinksldjump"/>
            </p:cNvPr>
            <p:cNvSpPr/>
            <p:nvPr/>
          </p:nvSpPr>
          <p:spPr>
            <a:xfrm>
              <a:off x="7924680" y="4876920"/>
              <a:ext cx="1219320" cy="914400"/>
            </a:xfrm>
            <a:custGeom>
              <a:avLst/>
              <a:gdLst>
                <a:gd name="textAreaLeft" fmla="*/ 107640 w 1219320"/>
                <a:gd name="textAreaRight" fmla="*/ 1111680 w 12193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288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200" y="21600"/>
                  </a:lnTo>
                  <a:arcTo wR="3600" hR="3600" stAng="10800000" swAng="5400000"/>
                  <a:lnTo>
                    <a:pt x="288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>
              <a:hlinkClick r:id="rId4" action="ppaction://hlinksldjump"/>
            </p:cNvPr>
            <p:cNvSpPr/>
            <p:nvPr/>
          </p:nvSpPr>
          <p:spPr>
            <a:xfrm>
              <a:off x="7967520" y="5181480"/>
              <a:ext cx="1143000" cy="337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21:32Z</dcterms:created>
  <dc:creator>089744</dc:creator>
  <dc:description/>
  <dc:language>en-US</dc:language>
  <cp:lastModifiedBy>Gary</cp:lastModifiedBy>
  <dcterms:modified xsi:type="dcterms:W3CDTF">2009-01-19T00:55:37Z</dcterms:modified>
  <cp:revision>22</cp:revision>
  <dc:subject/>
  <dc:title>Slide 1</dc:title>
</cp:coreProperties>
</file>